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CCB-C377-4618-9AF1-27A76F9E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0D7-00C5-44EB-840D-F6DDFE73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308-FD3C-41E2-9135-8F7BF374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D96-9C9F-4ED1-B664-EC8F80F2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CB8-6214-43FA-B254-F0140DF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CED-7C9D-465F-85C2-D99B45E7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91D-3346-4E94-8A70-CEDB5AFA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91F-599E-4A90-A5E9-64FAA294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8F3-6CEA-4B5C-BA74-C76C5966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91E-1498-401D-9321-5A8B437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747-AF44-4D83-B893-DD8A1BE4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38D-4F18-488E-B752-D1CB98A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D80C-3BDF-4E86-9B88-3B3A6F003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gitalegypt.ucl.ac.uk/maps/egypt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62120" y="60948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ll Ringer:  10-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y  do you believe the idea of all the gods were so important in ancient Egypt and wh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838080" y="8380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A powerful king named Sundiata ruled this area from around 1230-1255 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kingmaligoldad1375"/>
          <p:cNvPicPr/>
          <p:nvPr/>
        </p:nvPicPr>
        <p:blipFill>
          <a:blip r:embed="rId1"/>
          <a:stretch/>
        </p:blipFill>
        <p:spPr>
          <a:xfrm>
            <a:off x="4038480" y="2666880"/>
            <a:ext cx="4114800" cy="3130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685800" y="327672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e greatest king of Mali was Mansa Musa (1312-1337). He developed the gold and salt trade of Mali and his kingdom became very powerful and r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200400" y="60958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nsu Musa: Lord of the Negroes of Guine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hoto courtesy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istory of Afric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77920" y="76212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1324 Mansa Musa made a pilgrimage ( a journey to a holy place) with 60,000 servants and followers and 80 camels carrying more than 4,000 pounds of gold to be distributed among the po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mansamusag"/>
          <p:cNvPicPr/>
          <p:nvPr/>
        </p:nvPicPr>
        <p:blipFill>
          <a:blip r:embed="rId1"/>
          <a:stretch/>
        </p:blipFill>
        <p:spPr>
          <a:xfrm>
            <a:off x="1371600" y="3352680"/>
            <a:ext cx="1947960" cy="2457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37600" y="6324480"/>
            <a:ext cx="411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seleck.bei.t-online.de/timbuktu/img_tim/mansamusa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4572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G 29: Bla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g 30: kingdoms of Africa fold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g 31-32: You be the tea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0" descr="The main mosque at Jenne"/>
          <p:cNvPicPr/>
          <p:nvPr/>
        </p:nvPicPr>
        <p:blipFill>
          <a:blip r:embed="rId1"/>
          <a:srcRect l="7559" t="0" r="0" b="6056"/>
          <a:stretch/>
        </p:blipFill>
        <p:spPr>
          <a:xfrm>
            <a:off x="533520" y="1752480"/>
            <a:ext cx="221760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28"/>
          <p:cNvSpPr txBox="1"/>
          <p:nvPr/>
        </p:nvSpPr>
        <p:spPr>
          <a:xfrm>
            <a:off x="1600200" y="2057400"/>
            <a:ext cx="6172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d2db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HANA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2d2db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iger_river"/>
          <p:cNvPicPr/>
          <p:nvPr/>
        </p:nvPicPr>
        <p:blipFill>
          <a:blip r:embed="rId1"/>
          <a:stretch/>
        </p:blipFill>
        <p:spPr>
          <a:xfrm>
            <a:off x="380880" y="2133720"/>
            <a:ext cx="5496120" cy="3752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419720" y="533520"/>
            <a:ext cx="4267080" cy="4839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hana developed in West Africa between the Niger and the Gambia Rivers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bout AD300 to about 11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rivers helped Ghana to grow rich because they were used to transport goods and develop trade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hana also collected taxes from traders who passed through the kingdom. The people called their nation Wagadu; we know it as Ghana --that was the word for war chief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52280" y="63244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evadasurveyor.com/africa/web/pages/niger_riv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066680"/>
            <a:ext cx="4952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ingdom of Ghana probably began when several clans of the Soninke people of west Africa came together under the leadership of a great king named Dinga Ciss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hana had few natural resources except salt and gold. They were also very good at making things from iron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hanaian warriors used iron tipped spears to subdue their neighbors, who fought with weapons made of stone, bone, and w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stack of gold bars"/>
          <p:cNvPicPr/>
          <p:nvPr/>
        </p:nvPicPr>
        <p:blipFill>
          <a:blip r:embed="rId1"/>
          <a:stretch/>
        </p:blipFill>
        <p:spPr>
          <a:xfrm>
            <a:off x="5029200" y="1523880"/>
            <a:ext cx="3549600" cy="358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105520" y="624852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imf.org/external/np/exr/center/mm/eng/mm_rs_01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N01151_"/>
          <p:cNvPicPr/>
          <p:nvPr/>
        </p:nvPicPr>
        <p:blipFill>
          <a:blip r:embed="rId1"/>
          <a:stretch/>
        </p:blipFill>
        <p:spPr>
          <a:xfrm>
            <a:off x="914400" y="914400"/>
            <a:ext cx="1424160" cy="392112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1981080" y="1600200"/>
            <a:ext cx="6019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ubia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 of Egyp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8600"/>
            <a:ext cx="2990880" cy="6286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648320" y="1523880"/>
            <a:ext cx="358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ubia grew along the Nile River south of Egypt. They shared many of the same cultural traits as Egypt such as religion, architecture and ar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920" y="65833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gitalegypt.ucl.ac.uk/maps/egyp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31"/>
          <p:cNvSpPr/>
          <p:nvPr/>
        </p:nvSpPr>
        <p:spPr>
          <a:xfrm>
            <a:off x="457200" y="53352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ncient Nubia was a great kingdom that produced many resources like gold, ivory, copper, frankincense and ebo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2"/>
          <p:cNvSpPr/>
          <p:nvPr/>
        </p:nvSpPr>
        <p:spPr>
          <a:xfrm>
            <a:off x="533520" y="2209680"/>
            <a:ext cx="449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bia was also known as Kush and The Land of the Bow.  Nubian archers (warriors who used a bow and arrow) were feared by all who saw them in bat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3"/>
          <p:cNvSpPr/>
          <p:nvPr/>
        </p:nvSpPr>
        <p:spPr>
          <a:xfrm>
            <a:off x="609480" y="4267080"/>
            <a:ext cx="44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From about 2,000 to 1,000 BC, Egypt ruled Nubia.  Nubia came north and conquered Egypt (800-700 B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4"/>
          <p:cNvSpPr/>
          <p:nvPr/>
        </p:nvSpPr>
        <p:spPr>
          <a:xfrm>
            <a:off x="7238880" y="62485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35"/>
          <p:cNvSpPr/>
          <p:nvPr/>
        </p:nvSpPr>
        <p:spPr>
          <a:xfrm>
            <a:off x="3429000" y="6324480"/>
            <a:ext cx="380988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Frankincense%20trae%20i%20oerkenen"/>
          <p:cNvPicPr/>
          <p:nvPr/>
        </p:nvPicPr>
        <p:blipFill>
          <a:blip r:embed="rId2"/>
          <a:srcRect l="0" t="0" r="25371" b="0"/>
          <a:stretch/>
        </p:blipFill>
        <p:spPr>
          <a:xfrm>
            <a:off x="5181480" y="1295280"/>
            <a:ext cx="3429000" cy="3337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5410080" y="464832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ankincense tree. The resin was used to make good smelling inc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724280" y="661356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ww.webzone.dk/oman/ oman/dyr-og-planter.h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osque"/>
          <p:cNvPicPr/>
          <p:nvPr/>
        </p:nvPicPr>
        <p:blipFill>
          <a:blip r:embed="rId1"/>
          <a:srcRect l="0" t="0" r="0" b="9018"/>
          <a:stretch/>
        </p:blipFill>
        <p:spPr>
          <a:xfrm>
            <a:off x="1066680" y="91440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2666880" y="1523880"/>
            <a:ext cx="44197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li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28600" y="617220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tsadventures.com/img/mosque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20:55:21Z</dcterms:created>
  <dc:creator>khorrock</dc:creator>
  <dc:description/>
  <dc:language>en-US</dc:language>
  <cp:lastModifiedBy>Tyler Daughtry</cp:lastModifiedBy>
  <dcterms:modified xsi:type="dcterms:W3CDTF">2013-10-17T13:21:48Z</dcterms:modified>
  <cp:revision>217</cp:revision>
  <dc:subject/>
  <dc:title>PowerPoint Presentation</dc:title>
</cp:coreProperties>
</file>